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B7D-8C19-4EEE-A67B-C8A290F7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6A2-5CCC-45C9-89B3-03E11770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11F-F3F7-45F1-84CD-9902812F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D2F-EEB6-45AA-8663-B8D571B1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425A-B91D-4A63-BD12-FF642AEB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B276-D8A9-4233-B66E-D5BE7A5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D483-F600-4F8C-9397-FFF77CA8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A036-E161-422C-A6EB-225571B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505E-C34E-4E27-A52E-B4D7214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3550-A2E7-42D7-B25D-AA437F22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F143-E0EB-4D38-8944-4FD51FA6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95A-2212-4E3E-B393-F9E96FC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752-8849-475E-9AF3-8506D5F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CB29-D895-442A-AF10-CA8EA48E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B37E-16BB-485B-AB14-3E8501E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00A8-87DE-4D16-825C-E192B97E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9660-72C0-42E0-B5E2-01BC2C3A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9A5-3C18-4768-A818-F9F82FAD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FE2-11FB-4FB6-9AB0-BFA2C930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673-65A0-41F6-9031-ED938220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C90-1ABC-43E0-BDC0-87FC0DDC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EC7-504A-46C1-BB73-1B72A24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8C6-AA62-4205-91A2-CBF289E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CFF-1E57-4A04-B8C5-0170DA2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3DB-9901-4C7C-8107-CC89B03C6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D58-4396-4991-BAB1-022DE1A1F0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Электропрогрев бетон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3301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напряжения трансформат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040" y="58341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электрических параметров трансформатора и подводящих проводов необходимо выбрать определенный метод прогрева и требуемые для него исходные данны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944640" y="1185840"/>
            <a:ext cx="75754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ов параметров оборудования, используемого при электродном прогреве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1092240" y="1706400"/>
            <a:ext cx="72388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редварительный электроразогрев бетонных смес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76440" y="584028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едварительном электроразогреве бетонных смесей, необходимо ввести или выбрать из соответствующих справочников исходные данные, провести расчет потребной мощности, параметров электрооборудования и бунк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155600" y="928800"/>
            <a:ext cx="701064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563840" y="228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иведенной удельной теплоемкости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244520" y="1360440"/>
            <a:ext cx="695340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3840" y="11448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орудования бункера для предварительного электроразогрева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525680" y="1838160"/>
            <a:ext cx="6676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ев бетона греющими изолированными провод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76440" y="5904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огреве бетона греющими изолированными проводами, необходимо ввести или выбрать из соответствующих справочников исходные данные и провести расчет электрических параметров прово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434960" y="995400"/>
            <a:ext cx="67914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ъемного прогрева бетона с помощью изолированных греющих прово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463760" y="1724040"/>
            <a:ext cx="66484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87280"/>
            <a:ext cx="8121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араметров оборудования, используемого при прогреве бетона методами электродного прогрева, прогрева греющими изолированными проводами, а также оборудования, применяемого при предварительном электроразогреве бетонных сме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следующие базы данных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удельные электрические сопротивления тяжелых бетонов на портландцементах разных заводов (ориентировочные значения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ориентировочное уменьшение величин удельного электрического сопротивления бетона в зависимости от вида и количества применяемых добавок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наивысшие допустимые температуры бетона при сквозном электропрогреве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графики нарастания прочности бетонов  в зависимости от температуры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коэффициенты теплопередачи различных опалубо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1162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ыбрать один из методов электропрогрева бетон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электродный прогрев, предварительный электроразогрев бетонных смесей, прогрев греющими изолированными провод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90640" y="1077840"/>
            <a:ext cx="532944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904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дный прогрев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0310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электродном прогреве бетона, необходимо ввести или выбрать из соответствующих справочников исходные данные, провести расчет требуемой электрической мощности и напряжения трансформ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00240" y="824040"/>
            <a:ext cx="689616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удельного сопротивления бетон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42772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расчетного удельного сопротивления бетона необходимо указать завод-изготовитель цемента, наименование и количество доба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520" y="1076400"/>
            <a:ext cx="810900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модуля поверхности конструкц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07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модуля поверхности конструкции необходимо предварительно просуммировать площади и объемы поверх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1520" y="1030320"/>
            <a:ext cx="64818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емпературы изотермического прогрев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136520" y="1289160"/>
            <a:ext cx="718344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396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родолжительности изотермического прогрева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16040" y="62276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должительность изотермического прогрева бетона определяется по графику нарастания прочности бетона для выбранной марки бето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30320" y="1128600"/>
            <a:ext cx="74642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оэффициента теплопередачи опалуб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16040" y="5122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коэффициента теплопередачи опалубки необходимо указать материал опалубки и скорость вет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357200" y="1316160"/>
            <a:ext cx="687384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12:20:26Z</dcterms:modified>
  <cp:revision>266</cp:revision>
  <dc:subject/>
  <dc:title>Слайд 1</dc:title>
</cp:coreProperties>
</file>